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5273640" y="-36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move the slide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667188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5273640" y="667188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0F8750-8A9B-4977-81F4-5A83BEA05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B0BD83-1981-43F4-9924-A375B48464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227930-4233-4071-A052-89482A0810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C7389B-AD51-4171-9636-4F33DE09FF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497DFE-AC72-4CFB-B156-0E04E0BDD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6975A4-D16F-42EF-8BF5-0CEDB002B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240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184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96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240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184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240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184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296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240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184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Untitled-2"/>
          <p:cNvPicPr/>
          <p:nvPr/>
        </p:nvPicPr>
        <p:blipFill>
          <a:blip r:embed="rId3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16000" indent="-216000">
              <a:spcAft>
                <a:spcPts val="876"/>
              </a:spcAft>
              <a:buClr>
                <a:srgbClr val="000066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3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4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5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6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" name="Rectangle 20"/>
          <p:cNvSpPr/>
          <p:nvPr/>
        </p:nvSpPr>
        <p:spPr>
          <a:xfrm>
            <a:off x="0" y="6012000"/>
            <a:ext cx="9144000" cy="846000"/>
          </a:xfrm>
          <a:prstGeom prst="rect">
            <a:avLst/>
          </a:prstGeom>
          <a:solidFill>
            <a:srgbClr val="152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3" name="Picture 22" descr="Humber2ColRev"/>
          <p:cNvPicPr/>
          <p:nvPr/>
        </p:nvPicPr>
        <p:blipFill>
          <a:blip r:embed="rId4"/>
          <a:stretch/>
        </p:blipFill>
        <p:spPr>
          <a:xfrm>
            <a:off x="263520" y="6232680"/>
            <a:ext cx="2000160" cy="401400"/>
          </a:xfrm>
          <a:prstGeom prst="rect">
            <a:avLst/>
          </a:prstGeom>
          <a:ln w="0">
            <a:noFill/>
          </a:ln>
        </p:spPr>
      </p:pic>
      <p:sp>
        <p:nvSpPr>
          <p:cNvPr id="4" name="Text Box 30"/>
          <p:cNvSpPr/>
          <p:nvPr/>
        </p:nvSpPr>
        <p:spPr>
          <a:xfrm>
            <a:off x="852480" y="222120"/>
            <a:ext cx="671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Text Box 31"/>
          <p:cNvSpPr/>
          <p:nvPr/>
        </p:nvSpPr>
        <p:spPr>
          <a:xfrm>
            <a:off x="925560" y="222120"/>
            <a:ext cx="648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" name="Text Box 34"/>
          <p:cNvSpPr/>
          <p:nvPr/>
        </p:nvSpPr>
        <p:spPr>
          <a:xfrm>
            <a:off x="8388360" y="6216480"/>
            <a:ext cx="49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D6E2-CB11-459C-B701-500A97AE9799}" type="slidenum"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TitleCollege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16000" indent="-216000">
              <a:spcAft>
                <a:spcPts val="876"/>
              </a:spcAft>
              <a:buClr>
                <a:srgbClr val="000066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3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4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5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6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6920" y="3157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ffcc00"/>
                </a:solidFill>
                <a:latin typeface="Lucida Sans"/>
              </a:rPr>
              <a:t>BUILDING A WELCOMING COMMUNITY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6120" y="3695400"/>
            <a:ext cx="662940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40"/>
                </a:solidFill>
                <a:latin typeface="Lucida Sans"/>
              </a:rPr>
              <a:t>Access to Quality Language and  Skills Training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3600" y="1088640"/>
            <a:ext cx="8371080" cy="48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 </a:t>
            </a: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- </a:t>
            </a: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Provides employment services in 5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communities in Toronto and Brampton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-110880">
              <a:lnSpc>
                <a:spcPct val="9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Coordinates Second Career and other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initiatives for laid-off workers for Humber</a:t>
            </a: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3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Lucida Sans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4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Community Employment Services</a:t>
            </a:r>
            <a:endParaRPr b="0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7236000" y="4600440"/>
            <a:ext cx="1501560" cy="725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964040" y="5403960"/>
            <a:ext cx="388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These </a:t>
            </a:r>
            <a:r>
              <a:rPr b="0" i="1" lang="en-US" sz="1100" spc="-1" strike="noStrike">
                <a:solidFill>
                  <a:srgbClr val="ffffff"/>
                </a:solidFill>
                <a:latin typeface="Franklin Gothic Demi"/>
              </a:rPr>
              <a:t>Employment Ontario</a:t>
            </a: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 services are funded in part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by the Government of Canada </a:t>
            </a:r>
            <a:endParaRPr b="0" lang="en-US" sz="11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841200" y="617544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jobs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rcRect l="37280" t="30478" r="9568" b="27440"/>
          <a:stretch/>
        </p:blipFill>
        <p:spPr>
          <a:xfrm>
            <a:off x="1509840" y="879480"/>
            <a:ext cx="579096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38461" t="25089" r="10650" b="56359"/>
          <a:stretch/>
        </p:blipFill>
        <p:spPr>
          <a:xfrm>
            <a:off x="1436760" y="2003400"/>
            <a:ext cx="6242040" cy="1422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540160" y="4122720"/>
            <a:ext cx="44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66"/>
                </a:solidFill>
                <a:latin typeface="Lucida Sans"/>
              </a:rPr>
              <a:t>Humber Mission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4240" y="952200"/>
            <a:ext cx="8969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umber develops broadly educated, highly skilled and adaptable citizens who significantly contribute to the educational, economic, and social development of their communities.  We accomplish this by: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Preparing learners for careers through a comprehensive choice of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educational credentials in a broad range of programming; 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Developing informed and engaged citizens through an applied and liberal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education;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Enabling organizations to enhance their effectiveness through customized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training and lifelong learning opportunities; and 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Lucida Sans"/>
              </a:rPr>
              <a:t>Supporting our local communities through outreach activities.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66"/>
                </a:solidFill>
                <a:latin typeface="Lucida Sans"/>
              </a:rPr>
              <a:t>  </a:t>
            </a:r>
            <a:endParaRPr b="0" lang="en-US" sz="6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94" name="Picture 2" descr="I:\Departmental\Community Outreach and Workforce Development\COWD website\COWD banner.jpg"/>
          <p:cNvPicPr/>
          <p:nvPr/>
        </p:nvPicPr>
        <p:blipFill>
          <a:blip r:embed="rId1"/>
          <a:stretch/>
        </p:blipFill>
        <p:spPr>
          <a:xfrm>
            <a:off x="676440" y="4502160"/>
            <a:ext cx="846756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Franklin Gothic Demi"/>
              </a:rPr>
              <a:t>Community Outreach &amp; Workforce Development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811160"/>
            <a:ext cx="846144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52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To act as a focal point for Humber and the external community to increase access by: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800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Identifying community needs/gaps and respons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Building partnerships to create accessible pathways to Humber and employmen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Facilitating, coordinating, supporting and/or managing access project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Assisting community partners to build capacity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348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50800" y="1114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e2d6e"/>
                </a:solidFill>
                <a:latin typeface="Franklin Gothic Demi"/>
              </a:rPr>
              <a:t>Our Role:</a:t>
            </a:r>
            <a:endParaRPr b="0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4586400" y="6208560"/>
            <a:ext cx="3338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www.humber.ca/community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61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Lucida Sans"/>
              </a:rPr>
              <a:t>Internationally Trained Immigrant Advising Service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99640"/>
            <a:ext cx="894096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1e2d6e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1e2d6e"/>
                </a:solidFill>
                <a:latin typeface="Lucida Sans"/>
              </a:rPr>
              <a:t>Provides advice on employment pathways or academic programs for internationally trained professionals: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Career &amp; educational goal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Postsecondary programs and cours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Admission and enrolment proces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Referrals to bridging programs and language and skills upgrading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Community resources and referral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 </a:t>
            </a: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    </a:t>
            </a: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    </a:t>
            </a: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281480" y="62118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2" name="Picture 6" descr="http://newtocanada.humber.ca/images/pic2.jpg"/>
          <p:cNvPicPr/>
          <p:nvPr/>
        </p:nvPicPr>
        <p:blipFill>
          <a:blip r:embed="rId1"/>
          <a:srcRect l="0" t="0" r="0" b="3231"/>
          <a:stretch/>
        </p:blipFill>
        <p:spPr>
          <a:xfrm>
            <a:off x="2438280" y="4471920"/>
            <a:ext cx="67057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Language Training and Services 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47760" y="1262160"/>
            <a:ext cx="855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Language is one of the biggest barriers to effective newcomer settlement and entry into the labour market.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Humber offers: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5" name="Picture 4" descr="http://t0.gstatic.com/images?q=tbn:ANd9GcTLwdYfpNufsy0EmxxR9LG3oJLP74pf5cBblbZ6ylZePG2kGj73"/>
          <p:cNvPicPr/>
          <p:nvPr/>
        </p:nvPicPr>
        <p:blipFill>
          <a:blip r:embed="rId1"/>
          <a:srcRect l="30966" t="0" r="26371" b="297"/>
          <a:stretch/>
        </p:blipFill>
        <p:spPr>
          <a:xfrm>
            <a:off x="6095880" y="3792600"/>
            <a:ext cx="3048120" cy="2216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20840" y="2989440"/>
            <a:ext cx="54864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buClr>
                <a:srgbClr val="5d7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74d3"/>
                </a:solidFill>
                <a:latin typeface="Franklin Gothic Demi"/>
              </a:rPr>
              <a:t> </a:t>
            </a: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The English Language Centre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Occupation-specific Language Training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An official IELTS Information Centre  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7" name="Picture 2" descr="http://www.humber.ca/liberalarts/sites/default/files/IELTS_logo.png"/>
          <p:cNvPicPr/>
          <p:nvPr/>
        </p:nvPicPr>
        <p:blipFill>
          <a:blip r:embed="rId2"/>
          <a:stretch/>
        </p:blipFill>
        <p:spPr>
          <a:xfrm>
            <a:off x="2449440" y="5518080"/>
            <a:ext cx="612720" cy="19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Funded%20by%20CIC%20logo"/>
          <p:cNvPicPr/>
          <p:nvPr/>
        </p:nvPicPr>
        <p:blipFill>
          <a:blip r:embed="rId3"/>
          <a:stretch/>
        </p:blipFill>
        <p:spPr>
          <a:xfrm>
            <a:off x="1971720" y="4552920"/>
            <a:ext cx="186696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Lucida Sans"/>
              </a:rPr>
              <a:t>Bridge Training Projects for Skilled Immigrants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6240" y="857160"/>
            <a:ext cx="866592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Engineering Software Skills Enhancement Program –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School of Applied Technology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Part time, 2-semester program that provides internationally trained Civil and Electrical Engineers with training  in the latest technical and  software skills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.NET Solutions for Internationally Trained IT Professionals – School of Media Studies  &amp;  I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24 week program that provides in depth knowledge of application development using Microsoft .NET 3.5 and database administration, implementation and maintenance using SQL Server 2008 </a:t>
            </a: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809520" y="617544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88640" y="871200"/>
            <a:ext cx="89550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Sales and Marketing Connections –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-  helps Internationally Trained Sales and Marketing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      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Professionals move towards employment in their field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-  Humber teaches Channel Management, Professional Selling,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    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Marketing and E-Commerce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Trades Win Support Program –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698400" indent="-26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0" lang="en-CA" sz="2000" spc="-1" strike="noStrike">
                <a:solidFill>
                  <a:srgbClr val="00296b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11-week program that prepares Internationally Trained Construction and Maintenance Electricians, Industrial Electricians and Millwrights to write and pass the Certificate of Qualification exam</a:t>
            </a:r>
            <a:endParaRPr b="0" lang="en-US" sz="2000" spc="-1" strike="noStrike">
              <a:solidFill>
                <a:srgbClr val="000066"/>
              </a:solidFill>
              <a:latin typeface="Franklin Gothic Book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809520" y="617544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197840" y="1073160"/>
            <a:ext cx="162864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 Skills for Change Logo"/>
          <p:cNvPicPr/>
          <p:nvPr/>
        </p:nvPicPr>
        <p:blipFill>
          <a:blip r:embed="rId2"/>
          <a:stretch/>
        </p:blipFill>
        <p:spPr>
          <a:xfrm>
            <a:off x="6010200" y="3598920"/>
            <a:ext cx="2444760" cy="552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Lucida Sans"/>
              </a:rPr>
              <a:t>Bridge Training Projects for Skilled Immigrants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66"/>
                </a:solidFill>
                <a:latin typeface="Lucida Sans"/>
              </a:rPr>
              <a:t>Mentoring Partnership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7600" y="1784160"/>
            <a:ext cx="8099640" cy="39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Franklin Gothic Demi"/>
              </a:rPr>
              <a:t>-  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ew immigrants (mentees) are matched  with mentors who share the same profession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-  Mentors give 24 hours of their time over a four-month period to help their mentee navigate the job search process by sharing their knowledge, experience and professional networks </a:t>
            </a:r>
            <a:br>
              <a:rPr sz="2400"/>
            </a:b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506680" y="6208560"/>
            <a:ext cx="63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Demi"/>
              </a:rPr>
              <a:t>www.triec.ca/programs/the-mentor-partnership</a:t>
            </a:r>
            <a:endParaRPr b="0" lang="en-US" sz="22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0" name="Picture 2" descr="http://www.triec.ca/files/364/original/TMP-newlogo.jpg"/>
          <p:cNvPicPr/>
          <p:nvPr/>
        </p:nvPicPr>
        <p:blipFill>
          <a:blip r:embed="rId1"/>
          <a:stretch/>
        </p:blipFill>
        <p:spPr>
          <a:xfrm>
            <a:off x="6335640" y="1035000"/>
            <a:ext cx="219096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Pathways to Postsecondary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2960" y="1058760"/>
            <a:ext cx="75103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Lucida Sans"/>
              </a:rPr>
              <a:t>I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nformation sessions to local middle &amp; secondary schools to inform students regarding the importance of postsecondary education and pathways to accessing apprenticeship, colleges and universities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Similar sessions are delivered to parents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through partnerships with Rexdale Women’s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Centre, MicroSkills, Albion Neighbourhood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Services, Rexdale Community Health Centre,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TDSB, etc.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123" name="Picture 2" descr="I:\Departmental\Community Outreach and Workforce Development\COWD website\stock images\Young Man holding laptop.jpg"/>
          <p:cNvPicPr/>
          <p:nvPr/>
        </p:nvPicPr>
        <p:blipFill>
          <a:blip r:embed="rId1"/>
          <a:stretch/>
        </p:blipFill>
        <p:spPr>
          <a:xfrm>
            <a:off x="7207200" y="3106800"/>
            <a:ext cx="1936800" cy="2900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6080" y="613872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Demi"/>
              </a:rPr>
              <a:t>www.humber.ca/community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55:50Z</dcterms:created>
  <dc:creator>Administrator</dc:creator>
  <dc:description/>
  <dc:language>en-US</dc:language>
  <cp:lastModifiedBy>Humber College</cp:lastModifiedBy>
  <cp:lastPrinted>2001-02-02T15:46:39Z</cp:lastPrinted>
  <dcterms:modified xsi:type="dcterms:W3CDTF">2011-06-27T18:53:23Z</dcterms:modified>
  <cp:revision>295</cp:revision>
  <dc:subject/>
  <dc:title>HUMBER COLLEGE</dc:title>
</cp:coreProperties>
</file>